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683-3A0A-4352-B538-4779CBC1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0FF-C583-46C2-9EDC-136B1E4D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594-E8C3-4CF8-9905-51A30CA9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21E0-19EE-45FB-AA5F-F36988A3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22A-6A57-4D5A-911D-6BDC5266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06D7-9498-4E20-97B7-32E200CB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CE0-A8A3-4834-BADF-4DA2BA74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AB91-CFDB-485D-9B49-B8147068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F22-A9F8-4F44-9AC8-D655A5D3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7BC-E362-46CD-8A60-155EB1A1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9B11-F2F0-49BA-B932-D13496B2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E293-88EC-4ACC-A64B-FB783F04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0C4D-912E-4CEB-BD4F-FA9FA0D03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2997360"/>
            <a:ext cx="511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979640" y="2602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-1116000" y="-6746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198900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1916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1989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05840" y="1990800"/>
            <a:ext cx="1160640" cy="20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902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9028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853440" y="-173880"/>
            <a:ext cx="1294560" cy="21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7:20:12Z</dcterms:created>
  <dc:creator>admin</dc:creator>
  <dc:description/>
  <dc:language>en-US</dc:language>
  <cp:lastModifiedBy>admin</cp:lastModifiedBy>
  <dcterms:modified xsi:type="dcterms:W3CDTF">2007-11-29T17:20:41Z</dcterms:modified>
  <cp:revision>1</cp:revision>
  <dc:subject/>
  <dc:title>Slide 1</dc:title>
</cp:coreProperties>
</file>