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BE1-2E55-4742-8864-2084478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90D-453C-43F7-B9B5-941D2BFA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C0C-E698-4605-A979-576A40F5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474-7A33-40F2-97F9-0217C545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5FD-0DA8-4408-8E8D-C1342CB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833-C91D-4338-8398-33B9C378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9F4-64DC-48A2-A600-DE7DA2AC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661-9EBF-4412-858C-950FBEB5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8BF-6F62-4DFE-A967-E89A913A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FC9-BE74-43B9-9A6F-EAB6049A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10E-C2A7-426A-8097-F69856F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B24-5B1C-4006-80F8-BE786D8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6B0-5959-45A3-9658-F384FB88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13372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11253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aw Delta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328464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o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lta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42920" y="4581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01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427280" y="4005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0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162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924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997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933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0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4365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4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 AST Transform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515772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Arial"/>
              </a:rPr>
              <a:t>With interleaved deltaTime 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2:57:39Z</dcterms:created>
  <dc:creator>admin</dc:creator>
  <dc:description/>
  <dc:language>en-US</dc:language>
  <cp:lastModifiedBy>admin</cp:lastModifiedBy>
  <dcterms:modified xsi:type="dcterms:W3CDTF">2007-12-28T16:40:00Z</dcterms:modified>
  <cp:revision>2</cp:revision>
  <dc:subject/>
  <dc:title>Slide 1</dc:title>
</cp:coreProperties>
</file>