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58C-8D08-4C1C-B2E3-D536AE9C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90A-E82A-44A2-8E06-7D18CD43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633-47B9-4A9F-A2D3-42B45A14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D4E-2195-47A9-A595-7406CE69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8518-0BBA-4BF0-9738-BE77A5E2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16D-ACD0-4C9C-89B6-0C4815BB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5F1-C2E6-4408-859A-51472CEA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DB5A-C899-4ED5-BDCA-793FEFE9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980C-49CB-4E32-9156-9ED0A1D2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50F7-70F0-467F-8308-33C8299A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A1EF-08B1-4252-9B85-99837E32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FC85-B2DB-46C3-A34F-46D0BECB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8870-9E30-4863-9208-B343922DA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3640" y="2133720"/>
            <a:ext cx="151272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360" y="1125360"/>
            <a:ext cx="1008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119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3640" y="2133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Raw Delta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3640" y="3284640"/>
            <a:ext cx="151272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3357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bsTime on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4363920"/>
            <a:ext cx="151308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03640" y="4437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bsTime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4363920"/>
            <a:ext cx="151308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47640" y="4437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DeltaTime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842920" y="458136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5013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427280" y="4005360"/>
            <a:ext cx="64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3716280"/>
            <a:ext cx="9352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708360" y="292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162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284720" y="1628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56000" y="292428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48000" y="2997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3933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4076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59280" y="4365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501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404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MIDI AST Transform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92720" y="515772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400" spc="-1" strike="noStrike">
                <a:solidFill>
                  <a:srgbClr val="000000"/>
                </a:solidFill>
                <a:latin typeface="Arial"/>
              </a:rPr>
              <a:t>With interleaved deltaTime at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12:57:39Z</dcterms:created>
  <dc:creator>admin</dc:creator>
  <dc:description/>
  <dc:language>en-US</dc:language>
  <cp:lastModifiedBy>admin</cp:lastModifiedBy>
  <dcterms:modified xsi:type="dcterms:W3CDTF">2007-12-28T16:40:00Z</dcterms:modified>
  <cp:revision>2</cp:revision>
  <dc:subject/>
  <dc:title>Slide 1</dc:title>
</cp:coreProperties>
</file>