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1601-CEB4-43CB-AD39-67BB0A4B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983-1DAC-4873-AE3D-8E2B4ED8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CD25-BD02-4AEE-B64F-FF40ACA0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973D-780E-4D08-AAD1-99DA7AFC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2E57-C868-4CC2-9468-A9F1887D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DE75-EBFC-47C7-88D0-073BF0AD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4FF6-4C18-4AD2-8AE8-A8453377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FB54-03BA-4FAC-9424-FED4D76A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58BA-7C70-4243-A7CC-39D05173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D1E7-41AB-42FF-B29D-79FE8465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7A38-95FE-4B14-9D85-A8407872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A7A0-CB13-4A42-8829-DBDBA0C9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0518-91EF-407A-98BE-EA29030FF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2997360"/>
            <a:ext cx="511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1979640" y="26028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292428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292428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03640" y="292428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3236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-1116000" y="-67464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1989000"/>
            <a:ext cx="1429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1916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19890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05840" y="1990800"/>
            <a:ext cx="1160640" cy="20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0902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09028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853440" y="-173880"/>
            <a:ext cx="1294560" cy="21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7:20:12Z</dcterms:created>
  <dc:creator>admin</dc:creator>
  <dc:description/>
  <dc:language>en-US</dc:language>
  <cp:lastModifiedBy>admin</cp:lastModifiedBy>
  <dcterms:modified xsi:type="dcterms:W3CDTF">2007-11-29T17:20:41Z</dcterms:modified>
  <cp:revision>1</cp:revision>
  <dc:subject/>
  <dc:title>Slide 1</dc:title>
</cp:coreProperties>
</file>