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10F-BA79-4DE8-8FB8-52447211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629-6C97-4B72-A99A-C623CBC3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A6B-ADB9-4CD1-803E-F762F07E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606-C442-499C-A1EA-CAD24379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2E1-588B-40D3-9E04-028AEBB1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A60-F4D0-476D-B548-D4EECD0C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423-ECE6-45F8-ADA9-A0FCD7DD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A1C-77AB-4DB2-BE64-08F91378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527-90E2-432D-AA01-B63CB8AD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F67-49D5-4297-A3DF-17BDE68A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F5B-8559-4A3D-B3EE-B190F914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8A1-7F54-4146-BAE3-64B75EB1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E018-1D08-409E-85F1-99D4BDCB5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2133720"/>
            <a:ext cx="1512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360" y="1125360"/>
            <a:ext cx="10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Raw Delta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3284640"/>
            <a:ext cx="1512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bsTime on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4363920"/>
            <a:ext cx="1513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03640" y="44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bsTim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4363920"/>
            <a:ext cx="1513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44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ltaTim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842920" y="4581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501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427280" y="4005360"/>
            <a:ext cx="64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3716280"/>
            <a:ext cx="935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70836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84720" y="1628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292428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2997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3933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4076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4365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04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MIDI AST Transform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515772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Arial"/>
              </a:rPr>
              <a:t>With interleaved deltaTime a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12:57:39Z</dcterms:created>
  <dc:creator>admin</dc:creator>
  <dc:description/>
  <dc:language>en-US</dc:language>
  <cp:lastModifiedBy>admin</cp:lastModifiedBy>
  <dcterms:modified xsi:type="dcterms:W3CDTF">2007-12-28T16:40:00Z</dcterms:modified>
  <cp:revision>2</cp:revision>
  <dc:subject/>
  <dc:title>Slide 1</dc:title>
</cp:coreProperties>
</file>