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4BD3-0BD4-40DD-94D5-19C03FBD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C37-5BB7-4BB3-868B-CBE23FBB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1B3-CFDD-4AAA-AC94-692C7CE1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1B0-ADAC-4D1A-B828-0DDEE780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291-F5EB-478F-AB1E-C44CEDB5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E51-5895-446B-8974-AF412BA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D7A9-09F6-4664-8F98-A02445C7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2AC-A444-4DB3-8900-C34B7AF9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C98-2510-46F4-909E-13FFBEF1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3E9-A1C9-4C30-A0DE-DE8DEC3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322-722D-4B7E-8EC6-67BDE6B8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F34-BE34-4321-91B8-447B5B95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8282-ED52-4E71-B9D8-29A2D9C7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76520"/>
            <a:ext cx="4114800" cy="1981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2590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895480" y="2362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581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 sample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2514600"/>
            <a:ext cx="3809880" cy="1752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447920"/>
            <a:ext cx="2819520" cy="1752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90512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5238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Another piece of 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5:10:33Z</dcterms:created>
  <dc:creator>normark</dc:creator>
  <dc:description/>
  <dc:language>en-US</dc:language>
  <cp:lastModifiedBy>normark</cp:lastModifiedBy>
  <dcterms:modified xsi:type="dcterms:W3CDTF">2002-11-28T14:24:12Z</dcterms:modified>
  <cp:revision>3</cp:revision>
  <dc:subject/>
  <dc:title>PowerPoint Presentation</dc:title>
</cp:coreProperties>
</file>