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4D63-2DDE-4F63-B007-74B34729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5547-0FF8-4D0E-9C9F-DFE6CEAD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6FF-67E2-420B-B9EA-DC39B76B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385-08BE-4FEF-AA40-D60A38A2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6AFD-26B3-4792-A5C6-1A2ECB23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2EA-D054-4B15-9A78-1A52D8A8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22A-6251-4A71-8B45-8C0B0043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731F-5BB6-4716-A893-21680CA7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6C88-91E1-47F8-9ADB-7E79500D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4C26-DDCE-4C41-AC11-8DBAF6F1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24E-13A9-4B02-9F78-B499494D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88BB-71F9-4D8D-BA38-3C57FEAF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44AB-77E5-4892-B3D3-BC4C6C69D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2997360"/>
            <a:ext cx="511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979640" y="2602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2924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2924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03640" y="2924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3236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-1116000" y="-6746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198900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1916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1989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05840" y="1990800"/>
            <a:ext cx="1160640" cy="20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902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9028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853440" y="-173880"/>
            <a:ext cx="1294560" cy="21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7:20:12Z</dcterms:created>
  <dc:creator>admin</dc:creator>
  <dc:description/>
  <dc:language>en-US</dc:language>
  <cp:lastModifiedBy>admin</cp:lastModifiedBy>
  <dcterms:modified xsi:type="dcterms:W3CDTF">2007-11-29T17:20:41Z</dcterms:modified>
  <cp:revision>1</cp:revision>
  <dc:subject/>
  <dc:title>Slide 1</dc:title>
</cp:coreProperties>
</file>