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435-F68B-484D-97A1-05593044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462-6129-4B9B-AE6D-426EFC6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FB8-7E67-48A9-8A11-0D06ED9E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E22-278E-47DC-9405-A22CC64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5A2-9F06-4897-B1D5-258354F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9BA-27C9-4BDA-A83C-05FB4B88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C34-17EA-4D8D-AE0A-AB4E9347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895-425D-4EDC-BA79-98BB710B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0DC-DF65-4499-8402-B1C1AB2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9FC-7487-47D4-8A0B-A2AD384B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BE3-2917-4606-99FD-C5E8476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C50-EF88-4902-AEBB-34DC91D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950-A70C-4925-B711-0536E2CB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13372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11253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aw Delta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328464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o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lta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42920" y="4581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01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427280" y="4005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0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162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924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997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933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0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4365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4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 AST Transform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515772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Arial"/>
              </a:rPr>
              <a:t>With interleaved deltaTime 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2:57:39Z</dcterms:created>
  <dc:creator>admin</dc:creator>
  <dc:description/>
  <dc:language>en-US</dc:language>
  <cp:lastModifiedBy>admin</cp:lastModifiedBy>
  <dcterms:modified xsi:type="dcterms:W3CDTF">2007-12-28T16:40:00Z</dcterms:modified>
  <cp:revision>2</cp:revision>
  <dc:subject/>
  <dc:title>Slide 1</dc:title>
</cp:coreProperties>
</file>