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B8AA-7514-4317-9C81-2BC81FBD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7DE2-7CBD-4288-8AA0-39E17D95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53E-F9EC-4976-899E-4A5720FC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201B-51D5-4521-B55C-D220D7B7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B0DA-32F9-4F87-ADA0-E2D97CF4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F8B9-AD5D-4C32-8562-613F1033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DAD7-846F-4ED6-AD62-22D21BFA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0C14-9A5E-4458-B847-437D3D54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3396-19E1-4428-9073-E63FA751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9516-4791-4C6C-838A-19CB604A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3834-B467-4FE0-A56D-20E9301F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BE4F-C1D4-4612-BB5A-E3F38903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C53E-D39A-4A3A-90B0-B826BAC07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676520"/>
            <a:ext cx="4114800" cy="1981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2590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895480" y="236232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3581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 sample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2514600"/>
            <a:ext cx="3809880" cy="1752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1447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362320" y="1905120"/>
            <a:ext cx="2361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5238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nother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5:10:33Z</dcterms:created>
  <dc:creator>normark</dc:creator>
  <dc:description/>
  <dc:language>en-US</dc:language>
  <cp:lastModifiedBy>normark</cp:lastModifiedBy>
  <dcterms:modified xsi:type="dcterms:W3CDTF">2002-11-28T14:24:12Z</dcterms:modified>
  <cp:revision>3</cp:revision>
  <dc:subject/>
  <dc:title>PowerPoint Presentation</dc:title>
</cp:coreProperties>
</file>