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566-975B-41A9-B2DC-4C81AE57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B8A-6732-44F6-ADBC-707CD46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30C-73B7-45EF-940A-4FBE7C5F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2F9-7EC2-49AC-B55E-E6BCC231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CF3-CD7C-408C-8890-B066DCB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22D-E366-4A6A-AE8D-1DB1D2FC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F82-5ACC-40D1-8212-F3ED05DE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C8B-AC8C-4504-A1AD-07AC837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9CF-4703-4E3A-A9CD-8693AC5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684-3F71-478A-8F8E-E237D03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F20-6E74-49C6-80EA-21B3869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E23-F66B-4531-897A-CBD990C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408B-6B4D-42DF-B9E8-1FB3FED16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5000" y="7812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592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476280"/>
            <a:ext cx="1476360" cy="3171960"/>
          </a:xfrm>
          <a:custGeom>
            <a:avLst/>
            <a:gdLst/>
            <a:ahLst/>
            <a:rect l="l" t="t" r="r" b="b"/>
            <a:pathLst>
              <a:path w="930" h="1998">
                <a:moveTo>
                  <a:pt x="0" y="0"/>
                </a:moveTo>
                <a:lnTo>
                  <a:pt x="0" y="270"/>
                </a:lnTo>
                <a:lnTo>
                  <a:pt x="498" y="270"/>
                </a:lnTo>
                <a:lnTo>
                  <a:pt x="498" y="612"/>
                </a:lnTo>
                <a:lnTo>
                  <a:pt x="930" y="612"/>
                </a:lnTo>
                <a:lnTo>
                  <a:pt x="930" y="996"/>
                </a:lnTo>
                <a:lnTo>
                  <a:pt x="738" y="996"/>
                </a:lnTo>
                <a:lnTo>
                  <a:pt x="738" y="804"/>
                </a:lnTo>
                <a:lnTo>
                  <a:pt x="18" y="804"/>
                </a:lnTo>
                <a:lnTo>
                  <a:pt x="18" y="996"/>
                </a:lnTo>
                <a:lnTo>
                  <a:pt x="258" y="996"/>
                </a:lnTo>
                <a:lnTo>
                  <a:pt x="258" y="1188"/>
                </a:lnTo>
                <a:lnTo>
                  <a:pt x="498" y="1188"/>
                </a:lnTo>
                <a:lnTo>
                  <a:pt x="498" y="199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7280" y="870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1720" y="879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409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3360" y="1422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3360" y="200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01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47840" y="2610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492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704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000" y="847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1343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9000" y="1886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4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4480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5000" y="303840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3105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85920" y="5335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14479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920" y="2438280"/>
            <a:ext cx="90468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5526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886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57360" y="628560"/>
            <a:ext cx="628560" cy="228600"/>
            <a:chOff x="657360" y="628560"/>
            <a:chExt cx="628560" cy="228600"/>
          </a:xfrm>
        </p:grpSpPr>
        <p:sp>
          <p:nvSpPr>
            <p:cNvPr id="76" name=""/>
            <p:cNvSpPr/>
            <p:nvPr/>
          </p:nvSpPr>
          <p:spPr>
            <a:xfrm>
              <a:off x="657360" y="62856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5960" y="73332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1896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920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360" y="1409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1514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7360" y="173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5960" y="183816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360" y="20480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152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57360" y="2476440"/>
            <a:ext cx="628560" cy="228600"/>
            <a:chOff x="657360" y="2476440"/>
            <a:chExt cx="628560" cy="228600"/>
          </a:xfrm>
        </p:grpSpPr>
        <p:sp>
          <p:nvSpPr>
            <p:cNvPr id="87" name=""/>
            <p:cNvSpPr/>
            <p:nvPr/>
          </p:nvSpPr>
          <p:spPr>
            <a:xfrm>
              <a:off x="657360" y="247644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5960" y="25812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1520" y="15908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120" y="1695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20" y="1895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120" y="200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8920" y="1733400"/>
            <a:ext cx="657360" cy="343080"/>
          </a:xfrm>
          <a:prstGeom prst="rightArrow">
            <a:avLst>
              <a:gd name="adj1" fmla="val 38889"/>
              <a:gd name="adj2" fmla="val 726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24240" y="533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4240" y="14479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512460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09920" y="15717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9920" y="19051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960" y="193680"/>
            <a:ext cx="107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4240" y="2819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867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3051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9920" y="24004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9920" y="37148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4143240"/>
            <a:ext cx="90504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9920" y="42195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9920" y="44863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84780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457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438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14316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79080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78152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43888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5400" y="5619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15238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5400" y="24861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56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3720" y="51436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15620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0" y="2876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419112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07:53Z</dcterms:created>
  <dc:creator>normark</dc:creator>
  <dc:description/>
  <dc:language>en-US</dc:language>
  <cp:lastModifiedBy>normark</cp:lastModifiedBy>
  <dcterms:modified xsi:type="dcterms:W3CDTF">2002-11-25T12:29:47Z</dcterms:modified>
  <cp:revision>3</cp:revision>
  <dc:subject/>
  <dc:title>PowerPoint Presentation</dc:title>
</cp:coreProperties>
</file>