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C39-D6DB-4F08-9605-C3305193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795-69B7-49CF-BF36-C7A07402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3A0-64C0-41EF-B226-766B5D3C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A31-55F5-4D3D-B208-59350418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7BA-D769-4967-B41B-38186AC9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F8C-553E-48F7-9E41-223595D4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F75-A557-41C8-8BA2-9EC3A4E5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664-719E-4AF7-8B4D-6A9FAA94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E5B-5A3D-4BCC-B123-01604148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960-21B5-49DA-BDFB-65A9C92A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CCE-3019-4175-8AB6-303AC605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814-DF1B-467E-B21C-46AD6FBB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7649-C9C9-4525-BFCB-935EEF93B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5000" y="7812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76212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295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8288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5920" y="243828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5440" y="476280"/>
            <a:ext cx="1476360" cy="3171960"/>
          </a:xfrm>
          <a:custGeom>
            <a:avLst/>
            <a:gdLst/>
            <a:ahLst/>
            <a:rect l="l" t="t" r="r" b="b"/>
            <a:pathLst>
              <a:path w="930" h="1998">
                <a:moveTo>
                  <a:pt x="0" y="0"/>
                </a:moveTo>
                <a:lnTo>
                  <a:pt x="0" y="270"/>
                </a:lnTo>
                <a:lnTo>
                  <a:pt x="498" y="270"/>
                </a:lnTo>
                <a:lnTo>
                  <a:pt x="498" y="612"/>
                </a:lnTo>
                <a:lnTo>
                  <a:pt x="930" y="612"/>
                </a:lnTo>
                <a:lnTo>
                  <a:pt x="930" y="996"/>
                </a:lnTo>
                <a:lnTo>
                  <a:pt x="738" y="996"/>
                </a:lnTo>
                <a:lnTo>
                  <a:pt x="738" y="804"/>
                </a:lnTo>
                <a:lnTo>
                  <a:pt x="18" y="804"/>
                </a:lnTo>
                <a:lnTo>
                  <a:pt x="18" y="996"/>
                </a:lnTo>
                <a:lnTo>
                  <a:pt x="258" y="996"/>
                </a:lnTo>
                <a:lnTo>
                  <a:pt x="258" y="1188"/>
                </a:lnTo>
                <a:lnTo>
                  <a:pt x="498" y="1188"/>
                </a:lnTo>
                <a:lnTo>
                  <a:pt x="498" y="199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7280" y="870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41720" y="879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8480" y="1409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3360" y="14223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3360" y="200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2840" y="201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47840" y="26100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492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67040" y="181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9000" y="847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9000" y="13431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9000" y="18860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9000" y="2467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4480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5000" y="3038400"/>
            <a:ext cx="457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9000" y="31050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85920" y="5335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85920" y="1447920"/>
            <a:ext cx="90468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5920" y="2438280"/>
            <a:ext cx="90468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5526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886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57360" y="628560"/>
            <a:ext cx="628560" cy="228600"/>
            <a:chOff x="657360" y="628560"/>
            <a:chExt cx="628560" cy="228600"/>
          </a:xfrm>
        </p:grpSpPr>
        <p:sp>
          <p:nvSpPr>
            <p:cNvPr id="76" name=""/>
            <p:cNvSpPr/>
            <p:nvPr/>
          </p:nvSpPr>
          <p:spPr>
            <a:xfrm>
              <a:off x="657360" y="62856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5960" y="73332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1896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39200" y="193680"/>
            <a:ext cx="74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7360" y="1409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85960" y="1514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7360" y="173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5960" y="183816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7360" y="20480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5960" y="21528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57360" y="2476440"/>
            <a:ext cx="628560" cy="228600"/>
            <a:chOff x="657360" y="2476440"/>
            <a:chExt cx="628560" cy="228600"/>
          </a:xfrm>
        </p:grpSpPr>
        <p:sp>
          <p:nvSpPr>
            <p:cNvPr id="87" name=""/>
            <p:cNvSpPr/>
            <p:nvPr/>
          </p:nvSpPr>
          <p:spPr>
            <a:xfrm>
              <a:off x="657360" y="247644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5960" y="258120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1520" y="159084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0120" y="1695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520" y="1895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0120" y="2000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28920" y="1733400"/>
            <a:ext cx="657360" cy="343080"/>
          </a:xfrm>
          <a:prstGeom prst="rightArrow">
            <a:avLst>
              <a:gd name="adj1" fmla="val 38889"/>
              <a:gd name="adj2" fmla="val 72659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24240" y="533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4240" y="14479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4240" y="512460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09920" y="15717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9920" y="19051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1960" y="193680"/>
            <a:ext cx="107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Audio note 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24240" y="2819520"/>
            <a:ext cx="905040" cy="75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28670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3051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09920" y="240048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9920" y="371484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4143240"/>
            <a:ext cx="905040" cy="75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9920" y="421956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09920" y="4486320"/>
            <a:ext cx="457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84780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1457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43828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14316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379080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4781520"/>
            <a:ext cx="210960" cy="114480"/>
          </a:xfrm>
          <a:prstGeom prst="leftArrow">
            <a:avLst>
              <a:gd name="adj1" fmla="val 41667"/>
              <a:gd name="adj2" fmla="val 48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5438880"/>
            <a:ext cx="210960" cy="114120"/>
          </a:xfrm>
          <a:prstGeom prst="leftArrow">
            <a:avLst>
              <a:gd name="adj1" fmla="val 41667"/>
              <a:gd name="adj2" fmla="val 48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95400" y="5619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5400" y="15238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5400" y="248616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5619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3720" y="514368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0" y="156204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0" y="287640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0" y="4191120"/>
            <a:ext cx="2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07:53Z</dcterms:created>
  <dc:creator>normark</dc:creator>
  <dc:description/>
  <dc:language>en-US</dc:language>
  <cp:lastModifiedBy>normark</cp:lastModifiedBy>
  <dcterms:modified xsi:type="dcterms:W3CDTF">2002-11-25T12:29:47Z</dcterms:modified>
  <cp:revision>3</cp:revision>
  <dc:subject/>
  <dc:title>PowerPoint Presentation</dc:title>
</cp:coreProperties>
</file>