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03A-DD1D-45A4-AADE-E5388EE6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132-28AB-4C4B-9B7C-B4AFD9C3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66B-8AD8-4596-9101-4E58716B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987-EE45-4B6B-8949-12D836D6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DCA-F530-44B5-AFA7-92D4DB0C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99E-CC9E-41D7-97E4-A386BF27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D18-CA91-4DF9-8B10-A5251BA4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B7B-FCA1-4D2B-BF15-8EDD49CA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099-4B0B-4D58-BEFF-A667B20A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C2D-2925-492D-A49A-70C0A9AA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023-6624-4F2A-97AD-EFBA77F8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FAE-EAD9-4DC6-A207-AC52BAC9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2275-3DE4-4E6F-8414-E16AAC328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5000" y="7812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592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5440" y="476280"/>
            <a:ext cx="1476360" cy="3171960"/>
          </a:xfrm>
          <a:custGeom>
            <a:avLst/>
            <a:gdLst/>
            <a:ahLst/>
            <a:rect l="l" t="t" r="r" b="b"/>
            <a:pathLst>
              <a:path w="930" h="1998">
                <a:moveTo>
                  <a:pt x="0" y="0"/>
                </a:moveTo>
                <a:lnTo>
                  <a:pt x="0" y="270"/>
                </a:lnTo>
                <a:lnTo>
                  <a:pt x="498" y="270"/>
                </a:lnTo>
                <a:lnTo>
                  <a:pt x="498" y="612"/>
                </a:lnTo>
                <a:lnTo>
                  <a:pt x="930" y="612"/>
                </a:lnTo>
                <a:lnTo>
                  <a:pt x="930" y="996"/>
                </a:lnTo>
                <a:lnTo>
                  <a:pt x="738" y="996"/>
                </a:lnTo>
                <a:lnTo>
                  <a:pt x="738" y="804"/>
                </a:lnTo>
                <a:lnTo>
                  <a:pt x="18" y="804"/>
                </a:lnTo>
                <a:lnTo>
                  <a:pt x="18" y="996"/>
                </a:lnTo>
                <a:lnTo>
                  <a:pt x="258" y="996"/>
                </a:lnTo>
                <a:lnTo>
                  <a:pt x="258" y="1188"/>
                </a:lnTo>
                <a:lnTo>
                  <a:pt x="498" y="1188"/>
                </a:lnTo>
                <a:lnTo>
                  <a:pt x="498" y="199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7280" y="870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41720" y="879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8480" y="1409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3360" y="14223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3360" y="200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2840" y="201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47840" y="26100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492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6704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9000" y="847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9000" y="13431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9000" y="18860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9000" y="2467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4480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5000" y="303840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9000" y="3105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85920" y="5335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85920" y="14479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5920" y="2438280"/>
            <a:ext cx="90468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5526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886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57360" y="628560"/>
            <a:ext cx="628560" cy="228600"/>
            <a:chOff x="657360" y="628560"/>
            <a:chExt cx="628560" cy="228600"/>
          </a:xfrm>
        </p:grpSpPr>
        <p:sp>
          <p:nvSpPr>
            <p:cNvPr id="76" name=""/>
            <p:cNvSpPr/>
            <p:nvPr/>
          </p:nvSpPr>
          <p:spPr>
            <a:xfrm>
              <a:off x="657360" y="62856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5960" y="73332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1896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3920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7360" y="1409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85960" y="1514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7360" y="173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5960" y="183816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7360" y="20480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5960" y="21528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57360" y="2476440"/>
            <a:ext cx="628560" cy="228600"/>
            <a:chOff x="657360" y="2476440"/>
            <a:chExt cx="628560" cy="228600"/>
          </a:xfrm>
        </p:grpSpPr>
        <p:sp>
          <p:nvSpPr>
            <p:cNvPr id="87" name=""/>
            <p:cNvSpPr/>
            <p:nvPr/>
          </p:nvSpPr>
          <p:spPr>
            <a:xfrm>
              <a:off x="657360" y="247644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5960" y="258120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1520" y="15908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0120" y="1695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520" y="1895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0120" y="2000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28920" y="1733400"/>
            <a:ext cx="657360" cy="343080"/>
          </a:xfrm>
          <a:prstGeom prst="rightArrow">
            <a:avLst>
              <a:gd name="adj1" fmla="val 38889"/>
              <a:gd name="adj2" fmla="val 72659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24240" y="533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4240" y="14479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4240" y="512460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09920" y="15717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9920" y="19051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1960" y="193680"/>
            <a:ext cx="107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24240" y="2819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2867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3051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09920" y="24004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9920" y="37148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4143240"/>
            <a:ext cx="90504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9920" y="42195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09920" y="44863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84780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1457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438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14316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379080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478152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543888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95400" y="5619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5400" y="15238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5400" y="24861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5619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3720" y="51436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0" y="156204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0" y="28764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0" y="419112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07:53Z</dcterms:created>
  <dc:creator>normark</dc:creator>
  <dc:description/>
  <dc:language>en-US</dc:language>
  <cp:lastModifiedBy>normark</cp:lastModifiedBy>
  <dcterms:modified xsi:type="dcterms:W3CDTF">2002-11-25T12:29:47Z</dcterms:modified>
  <cp:revision>3</cp:revision>
  <dc:subject/>
  <dc:title>PowerPoint Presentation</dc:title>
</cp:coreProperties>
</file>