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0ADA-D18B-4787-88A7-568EEF76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1E9-25CA-486B-A09A-026C654D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68D9-A399-4132-B8E5-84977406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E6A2-43C8-4825-B34D-6B5EFFD2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9B11-AA3A-4159-87E6-940A55E3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4D37-6CE7-4037-90F0-21CDBDA6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156-62E8-4380-B416-051E6B3B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C894-1501-4557-B7AF-3A5A7CD3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EFAB-F5A5-4EDC-8163-536BCB16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38EC-40A7-4C53-B6DB-6588A3D8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3F2-3522-45FA-99EF-9931812D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5AF-CB4A-436E-AEFB-ECC0D19A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F5DB-0BA8-46D8-9A67-79AA34F2A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05000" y="7812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1295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8288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76212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1295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8288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438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19520" y="76212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295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18288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5920" y="2438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95440" y="476280"/>
            <a:ext cx="1476360" cy="3171960"/>
          </a:xfrm>
          <a:custGeom>
            <a:avLst/>
            <a:gdLst/>
            <a:ahLst/>
            <a:rect l="l" t="t" r="r" b="b"/>
            <a:pathLst>
              <a:path w="930" h="1998">
                <a:moveTo>
                  <a:pt x="0" y="0"/>
                </a:moveTo>
                <a:lnTo>
                  <a:pt x="0" y="270"/>
                </a:lnTo>
                <a:lnTo>
                  <a:pt x="498" y="270"/>
                </a:lnTo>
                <a:lnTo>
                  <a:pt x="498" y="612"/>
                </a:lnTo>
                <a:lnTo>
                  <a:pt x="930" y="612"/>
                </a:lnTo>
                <a:lnTo>
                  <a:pt x="930" y="996"/>
                </a:lnTo>
                <a:lnTo>
                  <a:pt x="738" y="996"/>
                </a:lnTo>
                <a:lnTo>
                  <a:pt x="738" y="804"/>
                </a:lnTo>
                <a:lnTo>
                  <a:pt x="18" y="804"/>
                </a:lnTo>
                <a:lnTo>
                  <a:pt x="18" y="996"/>
                </a:lnTo>
                <a:lnTo>
                  <a:pt x="258" y="996"/>
                </a:lnTo>
                <a:lnTo>
                  <a:pt x="258" y="1188"/>
                </a:lnTo>
                <a:lnTo>
                  <a:pt x="498" y="1188"/>
                </a:lnTo>
                <a:lnTo>
                  <a:pt x="498" y="199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57280" y="870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41720" y="879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38480" y="14097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43360" y="14223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43360" y="2003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82840" y="2016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47840" y="26100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181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04920" y="181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67040" y="181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9000" y="847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9000" y="13431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9000" y="18860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9000" y="2467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24480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5000" y="303840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9000" y="3105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85920" y="533520"/>
            <a:ext cx="90468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85920" y="1447920"/>
            <a:ext cx="90468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85920" y="2438280"/>
            <a:ext cx="904680" cy="75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155268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188604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57360" y="628560"/>
            <a:ext cx="628560" cy="228600"/>
            <a:chOff x="657360" y="628560"/>
            <a:chExt cx="628560" cy="228600"/>
          </a:xfrm>
        </p:grpSpPr>
        <p:sp>
          <p:nvSpPr>
            <p:cNvPr id="76" name=""/>
            <p:cNvSpPr/>
            <p:nvPr/>
          </p:nvSpPr>
          <p:spPr>
            <a:xfrm>
              <a:off x="657360" y="62856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85960" y="733320"/>
              <a:ext cx="3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18960" y="193680"/>
            <a:ext cx="74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Audio 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39200" y="193680"/>
            <a:ext cx="74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Note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7360" y="1409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85960" y="15145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7360" y="17334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85960" y="183816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7360" y="204804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85960" y="215280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57360" y="2476440"/>
            <a:ext cx="628560" cy="228600"/>
            <a:chOff x="657360" y="2476440"/>
            <a:chExt cx="628560" cy="228600"/>
          </a:xfrm>
        </p:grpSpPr>
        <p:sp>
          <p:nvSpPr>
            <p:cNvPr id="87" name=""/>
            <p:cNvSpPr/>
            <p:nvPr/>
          </p:nvSpPr>
          <p:spPr>
            <a:xfrm>
              <a:off x="657360" y="247644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85960" y="2581200"/>
              <a:ext cx="3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71520" y="159084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0120" y="1695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1520" y="18954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0120" y="20001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28920" y="1733400"/>
            <a:ext cx="657360" cy="343080"/>
          </a:xfrm>
          <a:prstGeom prst="rightArrow">
            <a:avLst>
              <a:gd name="adj1" fmla="val 38889"/>
              <a:gd name="adj2" fmla="val 72659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24240" y="53352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24240" y="144792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24240" y="512460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09920" y="157176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9920" y="190512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61960" y="193680"/>
            <a:ext cx="107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Audio note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24240" y="281952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286704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330516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09920" y="240048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09920" y="371484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4143240"/>
            <a:ext cx="905040" cy="75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09920" y="421956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09920" y="448632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847800"/>
            <a:ext cx="210960" cy="114120"/>
          </a:xfrm>
          <a:prstGeom prst="leftArrow">
            <a:avLst>
              <a:gd name="adj1" fmla="val 41667"/>
              <a:gd name="adj2" fmla="val 484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145728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43828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314316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379080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478152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5438880"/>
            <a:ext cx="210960" cy="114120"/>
          </a:xfrm>
          <a:prstGeom prst="leftArrow">
            <a:avLst>
              <a:gd name="adj1" fmla="val 41667"/>
              <a:gd name="adj2" fmla="val 484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95400" y="56196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95400" y="152388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95400" y="248616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56196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33720" y="514368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0" y="156204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0" y="287640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0" y="419112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3:07:53Z</dcterms:created>
  <dc:creator>normark</dc:creator>
  <dc:description/>
  <dc:language>en-US</dc:language>
  <cp:lastModifiedBy>normark</cp:lastModifiedBy>
  <dcterms:modified xsi:type="dcterms:W3CDTF">2002-11-25T12:29:47Z</dcterms:modified>
  <cp:revision>3</cp:revision>
  <dc:subject/>
  <dc:title>PowerPoint Presentation</dc:title>
</cp:coreProperties>
</file>