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F2E5-D95A-482F-97E6-EBA92EB1D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DD3F-22FD-4513-87F2-668BC68F8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1ABA-ACED-45F2-96CE-57F41EE43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6150-D3C2-494D-9F53-BE80B0080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0D8C-47FC-48E3-8DE4-6F24748D1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FC57-9218-4C64-9903-59C5D0104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1543-4EF9-447F-8A85-439CEBB45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CBD2-6C10-4D8C-8E55-7C2BEAF3B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BD7A-66C0-4283-B90B-BD72F14B9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AE76-9AC1-43EF-902C-BA0E6389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0344-205F-4C90-A010-C1A3EF0F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4570-6E3F-4F32-A06A-16F54A3F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E201E-C31F-4C85-95C1-FB628D947B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28800" y="1676520"/>
            <a:ext cx="4114800" cy="19810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2590920"/>
            <a:ext cx="2819520" cy="1752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895480" y="2362320"/>
            <a:ext cx="1371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28800" y="35812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A sample piece of graph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828800" y="2514600"/>
            <a:ext cx="3809880" cy="1752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1447920"/>
            <a:ext cx="2819520" cy="1752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362320" y="1905120"/>
            <a:ext cx="2361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724280" y="15238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Another piece of graph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15:10:33Z</dcterms:created>
  <dc:creator>normark</dc:creator>
  <dc:description/>
  <dc:language>en-US</dc:language>
  <cp:lastModifiedBy>normark</cp:lastModifiedBy>
  <dcterms:modified xsi:type="dcterms:W3CDTF">2002-11-28T14:24:12Z</dcterms:modified>
  <cp:revision>3</cp:revision>
  <dc:subject/>
  <dc:title>PowerPoint Presentation</dc:title>
</cp:coreProperties>
</file>