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8B2-4BF6-41BF-B95F-5FA1D26E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18C-21FD-4078-B9E1-1B4764FD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03E-5A4D-4E17-96C8-45845B23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200-8E79-41B3-B155-28B01528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511-2A73-427B-97A4-BED27615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3F9-0E37-4BD7-85D5-F335F15E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5AB-3876-4201-A84B-F09F2ED0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252-0CDA-42C6-963F-17B729C0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9F6-B10A-43CF-B577-94A069DD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53D-BC13-40D0-AA81-287B8E97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85C-5EC3-4282-B9AE-9D85621E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E08-D9B3-4575-9E35-E9B0FC36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E9E1-168B-4691-9AEC-9BDA5D026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838080"/>
            <a:ext cx="144792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838080"/>
            <a:ext cx="1447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8478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317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8240" y="1079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na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7160" y="15937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add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6200" y="4302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59080" y="1119240"/>
            <a:ext cx="1355760" cy="1355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67040" y="1415880"/>
            <a:ext cx="2201760" cy="3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967040" y="1852200"/>
            <a:ext cx="21841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9200" y="10159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4640" y="3032280"/>
            <a:ext cx="1319400" cy="1668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73400" y="2473200"/>
            <a:ext cx="750960" cy="1195560"/>
          </a:xfrm>
          <a:custGeom>
            <a:avLst/>
            <a:gdLst/>
            <a:ahLst/>
            <a:rect l="l" t="t" r="r" b="b"/>
            <a:pathLst>
              <a:path w="424" h="748">
                <a:moveTo>
                  <a:pt x="424" y="0"/>
                </a:moveTo>
                <a:lnTo>
                  <a:pt x="424" y="748"/>
                </a:lnTo>
                <a:lnTo>
                  <a:pt x="0" y="7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00640" y="37591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8880" y="309564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43040" y="2830680"/>
            <a:ext cx="1084320" cy="812520"/>
          </a:xfrm>
          <a:custGeom>
            <a:avLst/>
            <a:gdLst/>
            <a:ahLst/>
            <a:rect l="l" t="t" r="r" b="b"/>
            <a:pathLst>
              <a:path w="754" h="512">
                <a:moveTo>
                  <a:pt x="754" y="512"/>
                </a:moveTo>
                <a:lnTo>
                  <a:pt x="0" y="5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74600" y="2516040"/>
            <a:ext cx="690840" cy="227160"/>
          </a:xfrm>
          <a:prstGeom prst="roundRect">
            <a:avLst>
              <a:gd name="adj" fmla="val 321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1760" y="2473200"/>
            <a:ext cx="7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838080"/>
            <a:ext cx="144792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838080"/>
            <a:ext cx="1447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8478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317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48240" y="1079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na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47160" y="15937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add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6200" y="4302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59080" y="1119240"/>
            <a:ext cx="1355760" cy="1355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7040" y="1415880"/>
            <a:ext cx="2201760" cy="3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967040" y="1852200"/>
            <a:ext cx="21841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59200" y="10159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4640" y="3032280"/>
            <a:ext cx="1319400" cy="1668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2473200"/>
            <a:ext cx="750960" cy="1195560"/>
          </a:xfrm>
          <a:custGeom>
            <a:avLst/>
            <a:gdLst/>
            <a:ahLst/>
            <a:rect l="l" t="t" r="r" b="b"/>
            <a:pathLst>
              <a:path w="424" h="748">
                <a:moveTo>
                  <a:pt x="424" y="0"/>
                </a:moveTo>
                <a:lnTo>
                  <a:pt x="424" y="748"/>
                </a:lnTo>
                <a:lnTo>
                  <a:pt x="0" y="7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00640" y="37591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28880" y="309564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43040" y="2830680"/>
            <a:ext cx="1084320" cy="812520"/>
          </a:xfrm>
          <a:custGeom>
            <a:avLst/>
            <a:gdLst/>
            <a:ahLst/>
            <a:rect l="l" t="t" r="r" b="b"/>
            <a:pathLst>
              <a:path w="754" h="512">
                <a:moveTo>
                  <a:pt x="754" y="512"/>
                </a:moveTo>
                <a:lnTo>
                  <a:pt x="0" y="5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4600" y="2516040"/>
            <a:ext cx="690840" cy="227160"/>
          </a:xfrm>
          <a:prstGeom prst="roundRect">
            <a:avLst>
              <a:gd name="adj" fmla="val 321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1760" y="2473200"/>
            <a:ext cx="7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51680" y="1336680"/>
            <a:ext cx="1581120" cy="84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62360" y="91116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22760" y="178272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19160" y="1957320"/>
            <a:ext cx="360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(list 'a1 v1 'a2 v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string-append "Some text. " "More text"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15920" y="15271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alling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20160" y="15271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2680" y="1957320"/>
            <a:ext cx="33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attributes text-contents 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600" y="192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19160" y="2711520"/>
            <a:ext cx="353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(string-append "Some text. " "More text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'a1 v1 'a2 v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22680" y="2786040"/>
            <a:ext cx="34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text-contents . attributes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19160" y="3159000"/>
            <a:ext cx="246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'a1 v1 'a2 v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"Some text. " "More text"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23040" y="3233880"/>
            <a:ext cx="23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. parameters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19160" y="2344680"/>
            <a:ext cx="239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(list 'a1 v1 'a2 v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"Some text. " "more text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23040" y="2419200"/>
            <a:ext cx="353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attributes . text-contents 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1600" y="2389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1600" y="2755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1600" y="3203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560" y="1527120"/>
            <a:ext cx="7588440" cy="20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9560" y="1527120"/>
            <a:ext cx="0" cy="20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3280" y="313704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2520" y="1527120"/>
            <a:ext cx="0" cy="20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3280" y="27162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3280" y="23320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7720" y="18954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73200" y="1249200"/>
            <a:ext cx="1827360" cy="1913040"/>
          </a:xfrm>
          <a:prstGeom prst="rect">
            <a:avLst/>
          </a:prstGeom>
          <a:solidFill>
            <a:srgbClr val="b3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69880" y="874800"/>
            <a:ext cx="20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cheme sourc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55920" y="1362240"/>
            <a:ext cx="194760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;; Introduction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; Section 1 intro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 Documentation of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f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 Documentation of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g ...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82880" y="2063880"/>
            <a:ext cx="830520" cy="331560"/>
          </a:xfrm>
          <a:prstGeom prst="rightArrow">
            <a:avLst>
              <a:gd name="adj1" fmla="val 50000"/>
              <a:gd name="adj2" fmla="val 626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06560" y="1278000"/>
            <a:ext cx="95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lexical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yntac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22920" y="1249200"/>
            <a:ext cx="2781360" cy="1913040"/>
          </a:xfrm>
          <a:prstGeom prst="rect">
            <a:avLst/>
          </a:prstGeom>
          <a:solidFill>
            <a:srgbClr val="b3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0" y="690480"/>
            <a:ext cx="20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mporary sourc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5280" y="1362240"/>
            <a:ext cx="27259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4 "Introduction ...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3 "Section 1 intro ...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2 "Documentation of f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f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2 "Documentation of g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g ...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702760" y="3768120"/>
            <a:ext cx="1136520" cy="331560"/>
          </a:xfrm>
          <a:prstGeom prst="rightArrow">
            <a:avLst>
              <a:gd name="adj1" fmla="val 50000"/>
              <a:gd name="adj2" fmla="val 8569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6320" y="3506760"/>
            <a:ext cx="131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extract rele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1360" y="4630680"/>
            <a:ext cx="25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anual style input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3782520" y="5418000"/>
            <a:ext cx="830520" cy="331920"/>
          </a:xfrm>
          <a:prstGeom prst="rightArrow">
            <a:avLst>
              <a:gd name="adj1" fmla="val 50000"/>
              <a:gd name="adj2" fmla="val 625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25560" y="504360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ke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37040" y="5024520"/>
            <a:ext cx="2552760" cy="1119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3200" y="4308480"/>
            <a:ext cx="1827360" cy="1913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3870360"/>
            <a:ext cx="25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TML manual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31T10:03:52Z</dcterms:created>
  <dc:creator>normark</dc:creator>
  <dc:description/>
  <dc:language>en-US</dc:language>
  <cp:lastModifiedBy>normark</cp:lastModifiedBy>
  <dcterms:modified xsi:type="dcterms:W3CDTF">1999-06-02T12:00:04Z</dcterms:modified>
  <cp:revision>9</cp:revision>
  <dc:subject/>
  <dc:title>No Slide Title</dc:title>
</cp:coreProperties>
</file>