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914D-B6D5-46E3-A2D7-46DD75047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B5F7-4A8D-4175-AA2C-00F9A0DA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EA28-9FAC-4DB7-882B-B2165360C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D923-5EE0-48C3-B330-59E72F4B0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3797-6630-4B86-896E-0652239B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2AF2-6D82-4A40-B6D3-75D512F9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74E2-3425-40D3-88EA-FB804B71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311C-9093-494D-9075-BB2D8880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DB5B-4700-4C3D-B63F-FD121EDE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3EEF-18FE-4EFF-85BF-7405B2CA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84DE-6BBF-45DC-8A26-BE300197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6DEB-462B-4F44-B9D8-B5E50045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807E-5F4C-401D-A1A7-C131D899F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838080"/>
            <a:ext cx="1447920" cy="1981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838080"/>
            <a:ext cx="144792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1847880"/>
            <a:ext cx="10670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1317600"/>
            <a:ext cx="106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8240" y="1079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Your na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7160" y="1593720"/>
            <a:ext cx="110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Your addre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86200" y="43020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59080" y="1119240"/>
            <a:ext cx="1355760" cy="13557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67040" y="1415880"/>
            <a:ext cx="2201760" cy="31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967040" y="1852200"/>
            <a:ext cx="21841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59200" y="101592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Std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4640" y="3032280"/>
            <a:ext cx="1319400" cy="1668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73400" y="2473200"/>
            <a:ext cx="750960" cy="1195560"/>
          </a:xfrm>
          <a:custGeom>
            <a:avLst/>
            <a:gdLst/>
            <a:ahLst/>
            <a:rect l="l" t="t" r="r" b="b"/>
            <a:pathLst>
              <a:path w="424" h="748">
                <a:moveTo>
                  <a:pt x="424" y="0"/>
                </a:moveTo>
                <a:lnTo>
                  <a:pt x="424" y="748"/>
                </a:lnTo>
                <a:lnTo>
                  <a:pt x="0" y="74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00640" y="3759120"/>
            <a:ext cx="10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Std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28880" y="3095640"/>
            <a:ext cx="116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HTML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43040" y="2830680"/>
            <a:ext cx="1084320" cy="812520"/>
          </a:xfrm>
          <a:custGeom>
            <a:avLst/>
            <a:gdLst/>
            <a:ahLst/>
            <a:rect l="l" t="t" r="r" b="b"/>
            <a:pathLst>
              <a:path w="754" h="512">
                <a:moveTo>
                  <a:pt x="754" y="512"/>
                </a:moveTo>
                <a:lnTo>
                  <a:pt x="0" y="51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74600" y="2516040"/>
            <a:ext cx="690840" cy="227160"/>
          </a:xfrm>
          <a:prstGeom prst="roundRect">
            <a:avLst>
              <a:gd name="adj" fmla="val 321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31760" y="2473200"/>
            <a:ext cx="7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Sub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14400" y="838080"/>
            <a:ext cx="1447920" cy="1981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838080"/>
            <a:ext cx="144792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1847880"/>
            <a:ext cx="10670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1317600"/>
            <a:ext cx="106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48240" y="1079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Your na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47160" y="1593720"/>
            <a:ext cx="110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Your addre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86200" y="43020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59080" y="1119240"/>
            <a:ext cx="1355760" cy="13557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67040" y="1415880"/>
            <a:ext cx="2201760" cy="31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967040" y="1852200"/>
            <a:ext cx="21841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59200" y="101592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Std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4640" y="3032280"/>
            <a:ext cx="1319400" cy="1668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3400" y="2473200"/>
            <a:ext cx="750960" cy="1195560"/>
          </a:xfrm>
          <a:custGeom>
            <a:avLst/>
            <a:gdLst/>
            <a:ahLst/>
            <a:rect l="l" t="t" r="r" b="b"/>
            <a:pathLst>
              <a:path w="424" h="748">
                <a:moveTo>
                  <a:pt x="424" y="0"/>
                </a:moveTo>
                <a:lnTo>
                  <a:pt x="424" y="748"/>
                </a:lnTo>
                <a:lnTo>
                  <a:pt x="0" y="74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00640" y="3759120"/>
            <a:ext cx="10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Std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28880" y="3095640"/>
            <a:ext cx="116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HTML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43040" y="2830680"/>
            <a:ext cx="1084320" cy="812520"/>
          </a:xfrm>
          <a:custGeom>
            <a:avLst/>
            <a:gdLst/>
            <a:ahLst/>
            <a:rect l="l" t="t" r="r" b="b"/>
            <a:pathLst>
              <a:path w="754" h="512">
                <a:moveTo>
                  <a:pt x="754" y="512"/>
                </a:moveTo>
                <a:lnTo>
                  <a:pt x="0" y="51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74600" y="2516040"/>
            <a:ext cx="690840" cy="227160"/>
          </a:xfrm>
          <a:prstGeom prst="roundRect">
            <a:avLst>
              <a:gd name="adj" fmla="val 321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31760" y="2473200"/>
            <a:ext cx="7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Sub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151680" y="1336680"/>
            <a:ext cx="1581120" cy="847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62360" y="91116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22760" y="1782720"/>
            <a:ext cx="638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019160" y="1957320"/>
            <a:ext cx="3609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f (list 'a1 v1 'a2 v2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string-append "Some text. " "More text")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15920" y="1527120"/>
            <a:ext cx="11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Calling 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20160" y="152712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22680" y="1957320"/>
            <a:ext cx="338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define (f attributes text-contents ) ..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1600" y="1927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19160" y="2711520"/>
            <a:ext cx="3533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f (string-append "Some text. " "More text"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'a1 v1 'a2 v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22680" y="2786040"/>
            <a:ext cx="34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define (f text-contents . attributes) ..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19160" y="3159000"/>
            <a:ext cx="246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f 'a1 v1 'a2 v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"Some text. " "More text"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23040" y="3233880"/>
            <a:ext cx="239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define (f . parameters) ..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19160" y="2344680"/>
            <a:ext cx="2390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f (list 'a1 v1 'a2 v2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"Some text. " "more text"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23040" y="2419200"/>
            <a:ext cx="353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define (f attributes . text-contents ) ..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1600" y="2389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1600" y="2755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1600" y="32036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3560" y="1527120"/>
            <a:ext cx="7588440" cy="20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79560" y="1527120"/>
            <a:ext cx="0" cy="20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3280" y="313704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92520" y="1527120"/>
            <a:ext cx="0" cy="20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3280" y="271620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3280" y="233208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7720" y="189540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73200" y="1249200"/>
            <a:ext cx="1827360" cy="1913040"/>
          </a:xfrm>
          <a:prstGeom prst="rect">
            <a:avLst/>
          </a:prstGeom>
          <a:solidFill>
            <a:srgbClr val="b3ff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69880" y="874800"/>
            <a:ext cx="200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cheme source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55920" y="1362240"/>
            <a:ext cx="1947600" cy="18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;;;; Introduction 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;;; Section 1 intro 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;; Documentation of 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define f ..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;; Documentation of 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define (g ...) ..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82880" y="2063880"/>
            <a:ext cx="830520" cy="331560"/>
          </a:xfrm>
          <a:prstGeom prst="rightArrow">
            <a:avLst>
              <a:gd name="adj1" fmla="val 50000"/>
              <a:gd name="adj2" fmla="val 626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06560" y="1278000"/>
            <a:ext cx="95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lexical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syntac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22920" y="1249200"/>
            <a:ext cx="2781360" cy="1913040"/>
          </a:xfrm>
          <a:prstGeom prst="rect">
            <a:avLst/>
          </a:prstGeom>
          <a:solidFill>
            <a:srgbClr val="b3ff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91200" y="690480"/>
            <a:ext cx="20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emporary source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5280" y="1362240"/>
            <a:ext cx="2725920" cy="18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comment 4 "Introduction ..."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comment 3 "Section 1 intro ..."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comment 2 "Documentation of f"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define f ..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comment 2 "Documentation of g"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define (g ...) ..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5702760" y="3768120"/>
            <a:ext cx="1136520" cy="331560"/>
          </a:xfrm>
          <a:prstGeom prst="rightArrow">
            <a:avLst>
              <a:gd name="adj1" fmla="val 50000"/>
              <a:gd name="adj2" fmla="val 8569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56320" y="3506760"/>
            <a:ext cx="131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extract rele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51360" y="4630680"/>
            <a:ext cx="25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Manual style input 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3782520" y="5418000"/>
            <a:ext cx="830520" cy="331920"/>
          </a:xfrm>
          <a:prstGeom prst="rightArrow">
            <a:avLst>
              <a:gd name="adj1" fmla="val 50000"/>
              <a:gd name="adj2" fmla="val 625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25560" y="5043600"/>
            <a:ext cx="113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make man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37040" y="5024520"/>
            <a:ext cx="2552760" cy="1119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73200" y="4308480"/>
            <a:ext cx="1827360" cy="19130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63520" y="3870360"/>
            <a:ext cx="254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HTML manual doc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31T10:03:52Z</dcterms:created>
  <dc:creator>normark</dc:creator>
  <dc:description/>
  <dc:language>en-US</dc:language>
  <cp:lastModifiedBy>normark</cp:lastModifiedBy>
  <dcterms:modified xsi:type="dcterms:W3CDTF">1999-06-02T12:00:04Z</dcterms:modified>
  <cp:revision>9</cp:revision>
  <dc:subject/>
  <dc:title>No Slide Title</dc:title>
</cp:coreProperties>
</file>